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BBB-1AA7-425B-A5CE-A7EB1B7F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C01-CF6E-40CC-9443-D9FB10DD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4D8-D9E6-41C8-AB0A-D0F9F31F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78B-3D79-4A9F-813C-AFEB4225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56C-B6AD-4343-BC21-17DC36F3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B55-745C-4F34-BB2E-F0D81F27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1D1-D709-4865-9E17-3CE38F4A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C0E-F741-465F-B054-FE4A4177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EFF-7345-4FEF-B131-79B603BB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569-3EFD-4C3C-9F4E-4273526E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14C-0FA9-4D60-BCC3-896EA73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ACE-D548-4E0C-9193-D55F6EE5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F2CD-AC59-490B-BBE8-B2FE19A40B5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Dugine b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tent Placeholder 3" descr="P1060643.JPG"/>
          <p:cNvPicPr/>
          <p:nvPr/>
        </p:nvPicPr>
        <p:blipFill>
          <a:blip r:embed="rId1"/>
          <a:stretch/>
        </p:blipFill>
        <p:spPr>
          <a:xfrm>
            <a:off x="514836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SC00640.JPG"/>
          <p:cNvPicPr/>
          <p:nvPr/>
        </p:nvPicPr>
        <p:blipFill>
          <a:blip r:embed="rId2"/>
          <a:stretch/>
        </p:blipFill>
        <p:spPr>
          <a:xfrm>
            <a:off x="395280" y="2492280"/>
            <a:ext cx="4600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6840" y="2060640"/>
            <a:ext cx="3970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Što je duga i što ona kazuje o prirodi svjetlos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kus: duga na papi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5"/>
          <p:cNvGrpSpPr/>
          <p:nvPr/>
        </p:nvGrpSpPr>
        <p:grpSpPr>
          <a:xfrm>
            <a:off x="4500720" y="2060640"/>
            <a:ext cx="4443120" cy="3322440"/>
            <a:chOff x="4500720" y="2060640"/>
            <a:chExt cx="4443120" cy="3322440"/>
          </a:xfrm>
        </p:grpSpPr>
        <p:pic>
          <p:nvPicPr>
            <p:cNvPr id="46" name="Picture 3" descr="SnapShot(683).jpg"/>
            <p:cNvPicPr/>
            <p:nvPr/>
          </p:nvPicPr>
          <p:blipFill>
            <a:blip r:embed="rId4"/>
            <a:srcRect l="40553" t="25547" r="0" b="7699"/>
            <a:stretch/>
          </p:blipFill>
          <p:spPr>
            <a:xfrm>
              <a:off x="4500720" y="2636640"/>
              <a:ext cx="4348080" cy="27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SnapShot(682).jpg"/>
            <p:cNvPicPr/>
            <p:nvPr/>
          </p:nvPicPr>
          <p:blipFill>
            <a:blip r:embed="rId5"/>
            <a:srcRect l="22638" t="0" r="31890" b="0"/>
            <a:stretch/>
          </p:blipFill>
          <p:spPr>
            <a:xfrm>
              <a:off x="6948360" y="2060640"/>
              <a:ext cx="1995480" cy="246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zaslonu su vidljive svjetlosne boje od ljubičaste do crvene, poredane kao dugine boje. Ta se pojava naziv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sap ili disperzija svjetl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jetlost kojom nas obasjava Sunce ili žarulja, a koju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ijela svjetlos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sastavljena je od svjetlosti različitih boja: ljubičaste, modre, plave, zelene, žute, narančaste i crv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Još o boj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Svjetlosti određene boje odgovara određena valna duljina svjetlosnog v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rvena svjetlost ima najveću, zelena manju, a ljubičasta najmanju valnu dulji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Crvenu svjetlost staklena prizma najmanje lomi, a ljubičastu najviše. Sve boje koje vidimo čine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spektar vidljive svjetlosti i nalaze se između ljubičaste i crvene svjetl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Boja ne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akle nebu danju plava boja, a za svitanja i u suton narančastocrve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va i ljubičasta svjetlost Sunca najjače se raspršuju odnosno odbijaju od molekula zraka u svim smjerovima. Zrake koje ne dolaze direktno sa Sunca, već iz ostalih smjerova nebeskog svoda su raspršene zrake i pretežno plave boje. Zato nam nebo izgleda plav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 svitanja i u predvečerja, kada je Sunce nisko, blizu horizonta, njegova svjetlost prolazi mnogo duži put kroz atmosferu. Na tom putu gotovo sav ljubičastoplavi dio svjetlosti se rasprši i skrene u stranu, a nama u oko dolazi samo preostala narančastocrvena svjetlost. Zato je nebo narančastocrv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20:16:07Z</dcterms:created>
  <dc:creator>Zdenko</dc:creator>
  <dc:description/>
  <dc:language>en-US</dc:language>
  <cp:lastModifiedBy>Zdenko</cp:lastModifiedBy>
  <dcterms:modified xsi:type="dcterms:W3CDTF">2014-07-18T09:16:05Z</dcterms:modified>
  <cp:revision>3</cp:revision>
  <dc:subject/>
  <dc:title>Dugine boje</dc:title>
</cp:coreProperties>
</file>